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D7D4-23FE-4D95-B69A-B80582489E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7D94-ADA9-43DC-B75D-C7C908CB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077A-27E9-494B-8219-BC6E7551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DD03-2687-45E5-9780-5ADF4BAE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A1AE-D5F7-4FA3-85C5-895E0109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55EE-EDEF-4915-B69B-A9FF6C8B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7AE-89F6-4008-87F6-C2B1B7EF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912A-051D-4553-9A09-AB77326A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395F-30D1-4833-BD7C-C7C9D427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DE45-CF5C-4B40-92A5-5446A569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D689-1196-4F36-B61E-7C73FD3A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8921-788F-4748-88DD-E1CE228F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A273-ED81-4584-94EC-5D442E04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CB54-A69D-4A72-97FB-2E0B44F5E8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a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Amount of stuff (atoms/molecules) in an object. Measured in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or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Measures the gravitational pull on something. Measured in N (newt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arths 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10N/kg. (The gravitational field strength at the surface of the Earth produces a force of approximately     10 N on every mass of 1 k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2832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3438360" cy="2981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28600" y="54864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rth’s gravitational force makes the ball move down towards the centre of the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48320" y="4800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n’s gravitational force makes the Earth move in an orbit around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Is a measure of force pulling something to the ground due to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826920" y="5157720"/>
            <a:ext cx="39610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= force /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ight = Mass x 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0:34:30Z</dcterms:created>
  <dc:creator>CEC</dc:creator>
  <dc:description/>
  <dc:language>en-US</dc:language>
  <cp:lastModifiedBy>RomaK</cp:lastModifiedBy>
  <dcterms:modified xsi:type="dcterms:W3CDTF">2015-09-03T12:31:07Z</dcterms:modified>
  <cp:revision>8</cp:revision>
  <dc:subject/>
  <dc:title>The story so far…… </dc:title>
</cp:coreProperties>
</file>